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9C94-919F-4B78-8D17-20001B0A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612B-78C2-4193-BF10-E085D559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E4A5-610F-454D-9F28-5E3D16F9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F803-21D5-424D-BAD5-6A326627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E7F3-D49D-4EE7-A3E9-3012CA5B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A619-E509-48B8-B2CE-D4D8A632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E266-2B14-4F22-B12F-BDE99B75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DA2C-282B-4ED8-8F36-D4519B87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91ED-4A53-4A61-9B94-37B46871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0729-2990-4CAF-8AC0-8589DF75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2CEC-BE54-420B-9BCB-CDFC1D60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95E6-93CD-4F2A-8AA5-598E9032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0105-D997-4D45-AB80-47A31A4C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9BB1-375B-4702-9156-04698E8B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6D1A-DAD5-4573-A97C-ACBCA222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F010-DAF6-4CD8-80E2-84DBE5C5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2501-F299-4541-A247-0394C81F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33A-B997-49E7-8ED5-E4DE04BF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A317-8394-4085-87A5-AACBF37E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C7AB-CBA1-44C6-875E-91A0FFB0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1F8A-2C80-48CB-A3A9-1D20771A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F43D-52A5-4580-AEE1-DC69AD36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2342-C283-44CE-8095-75AA6D54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92C8-0361-496A-A89F-3C578E22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045C-A94F-4B52-B912-2C25AAB72CF6}" type="slidenum"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6CCC-07CC-42A5-98D4-A70C1715781A}" type="slidenum"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266480"/>
            <a:ext cx="73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biothérapie d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ections urinaire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95680" y="5299200"/>
            <a:ext cx="42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 d’antibiothérapie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bjectifs de l'antibiothérapi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Infections urinaires bass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obtenir une concentration élevée d’antibiotique dans les uri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Infections urinaires haut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obtenir une concentration parenchymateuse élevée et une élimination urinaire suffisa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07880" y="609120"/>
            <a:ext cx="768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cologie microbienne des IU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85800" y="2133720"/>
            <a:ext cx="8380800" cy="4647240"/>
            <a:chOff x="685800" y="2133720"/>
            <a:chExt cx="8380800" cy="4647240"/>
          </a:xfrm>
        </p:grpSpPr>
        <p:grpSp>
          <p:nvGrpSpPr>
            <p:cNvPr id="316" name=""/>
            <p:cNvGrpSpPr/>
            <p:nvPr/>
          </p:nvGrpSpPr>
          <p:grpSpPr>
            <a:xfrm>
              <a:off x="685800" y="2133720"/>
              <a:ext cx="4360320" cy="724320"/>
              <a:chOff x="685800" y="2133720"/>
              <a:chExt cx="4360320" cy="724320"/>
            </a:xfrm>
          </p:grpSpPr>
          <p:sp>
            <p:nvSpPr>
              <p:cNvPr id="317" name=""/>
              <p:cNvSpPr/>
              <p:nvPr/>
            </p:nvSpPr>
            <p:spPr>
              <a:xfrm>
                <a:off x="768240" y="2133720"/>
                <a:ext cx="4194360" cy="72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85800" y="2133720"/>
                <a:ext cx="4360320" cy="72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046480" y="2133720"/>
              <a:ext cx="1339920" cy="724320"/>
              <a:chOff x="5046480" y="2133720"/>
              <a:chExt cx="1339920" cy="724320"/>
            </a:xfrm>
          </p:grpSpPr>
          <p:sp>
            <p:nvSpPr>
              <p:cNvPr id="320" name=""/>
              <p:cNvSpPr/>
              <p:nvPr/>
            </p:nvSpPr>
            <p:spPr>
              <a:xfrm>
                <a:off x="5128920" y="2133720"/>
                <a:ext cx="1173960" cy="72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Ville 1</a:t>
                </a:r>
                <a:r>
                  <a:rPr b="1" lang="en-US" sz="2000" spc="-1" strike="noStrike" baseline="30000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er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 épisod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46480" y="2133720"/>
                <a:ext cx="1339920" cy="72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386760" y="2133720"/>
              <a:ext cx="1339200" cy="724320"/>
              <a:chOff x="6386760" y="2133720"/>
              <a:chExt cx="1339200" cy="724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69200" y="2133720"/>
                <a:ext cx="1173960" cy="72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Ville récidiv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386760" y="2133720"/>
                <a:ext cx="1339200" cy="72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726680" y="2133720"/>
              <a:ext cx="1339920" cy="724320"/>
              <a:chOff x="7726680" y="2133720"/>
              <a:chExt cx="1339920" cy="724320"/>
            </a:xfrm>
          </p:grpSpPr>
          <p:sp>
            <p:nvSpPr>
              <p:cNvPr id="326" name=""/>
              <p:cNvSpPr/>
              <p:nvPr/>
            </p:nvSpPr>
            <p:spPr>
              <a:xfrm>
                <a:off x="7809840" y="2133720"/>
                <a:ext cx="1173600" cy="72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Hôpital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726680" y="2133720"/>
                <a:ext cx="1339920" cy="72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85800" y="2858400"/>
              <a:ext cx="4360320" cy="559800"/>
              <a:chOff x="685800" y="2858400"/>
              <a:chExt cx="4360320" cy="559800"/>
            </a:xfrm>
          </p:grpSpPr>
          <p:sp>
            <p:nvSpPr>
              <p:cNvPr id="329" name=""/>
              <p:cNvSpPr/>
              <p:nvPr/>
            </p:nvSpPr>
            <p:spPr>
              <a:xfrm>
                <a:off x="768240" y="285840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E. coli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85800" y="285840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046480" y="2858400"/>
              <a:ext cx="1339920" cy="559800"/>
              <a:chOff x="5046480" y="2858400"/>
              <a:chExt cx="1339920" cy="559800"/>
            </a:xfrm>
          </p:grpSpPr>
          <p:sp>
            <p:nvSpPr>
              <p:cNvPr id="332" name=""/>
              <p:cNvSpPr/>
              <p:nvPr/>
            </p:nvSpPr>
            <p:spPr>
              <a:xfrm>
                <a:off x="5128920" y="285840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85-9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046480" y="285840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6386760" y="2858400"/>
              <a:ext cx="1339200" cy="559800"/>
              <a:chOff x="6386760" y="2858400"/>
              <a:chExt cx="1339200" cy="559800"/>
            </a:xfrm>
          </p:grpSpPr>
          <p:sp>
            <p:nvSpPr>
              <p:cNvPr id="335" name=""/>
              <p:cNvSpPr/>
              <p:nvPr/>
            </p:nvSpPr>
            <p:spPr>
              <a:xfrm>
                <a:off x="6469200" y="285840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68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386760" y="285840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7726680" y="2858400"/>
              <a:ext cx="1339920" cy="559800"/>
              <a:chOff x="7726680" y="2858400"/>
              <a:chExt cx="1339920" cy="559800"/>
            </a:xfrm>
          </p:grpSpPr>
          <p:sp>
            <p:nvSpPr>
              <p:cNvPr id="338" name=""/>
              <p:cNvSpPr/>
              <p:nvPr/>
            </p:nvSpPr>
            <p:spPr>
              <a:xfrm>
                <a:off x="7809840" y="285840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5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726680" y="285840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685800" y="3418920"/>
              <a:ext cx="4360320" cy="559800"/>
              <a:chOff x="685800" y="3418920"/>
              <a:chExt cx="4360320" cy="559800"/>
            </a:xfrm>
          </p:grpSpPr>
          <p:sp>
            <p:nvSpPr>
              <p:cNvPr id="341" name=""/>
              <p:cNvSpPr/>
              <p:nvPr/>
            </p:nvSpPr>
            <p:spPr>
              <a:xfrm>
                <a:off x="768240" y="341892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Proteus </a:t>
                </a:r>
                <a:r>
                  <a:rPr b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s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85800" y="341892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5046480" y="3418920"/>
              <a:ext cx="1339920" cy="559800"/>
              <a:chOff x="5046480" y="3418920"/>
              <a:chExt cx="1339920" cy="559800"/>
            </a:xfrm>
          </p:grpSpPr>
          <p:sp>
            <p:nvSpPr>
              <p:cNvPr id="344" name=""/>
              <p:cNvSpPr/>
              <p:nvPr/>
            </p:nvSpPr>
            <p:spPr>
              <a:xfrm>
                <a:off x="5128920" y="341892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3-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046480" y="341892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6386760" y="3418920"/>
              <a:ext cx="1339200" cy="559800"/>
              <a:chOff x="6386760" y="3418920"/>
              <a:chExt cx="1339200" cy="559800"/>
            </a:xfrm>
          </p:grpSpPr>
          <p:sp>
            <p:nvSpPr>
              <p:cNvPr id="347" name=""/>
              <p:cNvSpPr/>
              <p:nvPr/>
            </p:nvSpPr>
            <p:spPr>
              <a:xfrm>
                <a:off x="6469200" y="341892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9-1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386760" y="341892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7726680" y="3418920"/>
              <a:ext cx="1339920" cy="559800"/>
              <a:chOff x="7726680" y="3418920"/>
              <a:chExt cx="1339920" cy="559800"/>
            </a:xfrm>
          </p:grpSpPr>
          <p:sp>
            <p:nvSpPr>
              <p:cNvPr id="350" name=""/>
              <p:cNvSpPr/>
              <p:nvPr/>
            </p:nvSpPr>
            <p:spPr>
              <a:xfrm>
                <a:off x="7809840" y="341892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726680" y="341892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685800" y="3979440"/>
              <a:ext cx="4360320" cy="559800"/>
              <a:chOff x="685800" y="3979440"/>
              <a:chExt cx="4360320" cy="559800"/>
            </a:xfrm>
          </p:grpSpPr>
          <p:sp>
            <p:nvSpPr>
              <p:cNvPr id="353" name=""/>
              <p:cNvSpPr/>
              <p:nvPr/>
            </p:nvSpPr>
            <p:spPr>
              <a:xfrm>
                <a:off x="768240" y="397944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Klebsiella </a:t>
                </a:r>
                <a:r>
                  <a:rPr b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s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85800" y="397944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5046480" y="3979440"/>
              <a:ext cx="1339920" cy="559800"/>
              <a:chOff x="5046480" y="3979440"/>
              <a:chExt cx="1339920" cy="559800"/>
            </a:xfrm>
          </p:grpSpPr>
          <p:sp>
            <p:nvSpPr>
              <p:cNvPr id="356" name=""/>
              <p:cNvSpPr/>
              <p:nvPr/>
            </p:nvSpPr>
            <p:spPr>
              <a:xfrm>
                <a:off x="5128920" y="397944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&lt;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046480" y="397944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386760" y="3979440"/>
              <a:ext cx="1339200" cy="559800"/>
              <a:chOff x="6386760" y="3979440"/>
              <a:chExt cx="1339200" cy="559800"/>
            </a:xfrm>
          </p:grpSpPr>
          <p:sp>
            <p:nvSpPr>
              <p:cNvPr id="359" name=""/>
              <p:cNvSpPr/>
              <p:nvPr/>
            </p:nvSpPr>
            <p:spPr>
              <a:xfrm>
                <a:off x="6469200" y="397944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386760" y="397944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7726680" y="3979440"/>
              <a:ext cx="1339920" cy="559800"/>
              <a:chOff x="7726680" y="3979440"/>
              <a:chExt cx="1339920" cy="559800"/>
            </a:xfrm>
          </p:grpSpPr>
          <p:sp>
            <p:nvSpPr>
              <p:cNvPr id="362" name=""/>
              <p:cNvSpPr/>
              <p:nvPr/>
            </p:nvSpPr>
            <p:spPr>
              <a:xfrm>
                <a:off x="7809840" y="397944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726680" y="397944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685800" y="4539600"/>
              <a:ext cx="4360320" cy="559800"/>
              <a:chOff x="685800" y="4539600"/>
              <a:chExt cx="4360320" cy="559800"/>
            </a:xfrm>
          </p:grpSpPr>
          <p:sp>
            <p:nvSpPr>
              <p:cNvPr id="365" name=""/>
              <p:cNvSpPr/>
              <p:nvPr/>
            </p:nvSpPr>
            <p:spPr>
              <a:xfrm>
                <a:off x="768240" y="453960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Staphylococcus saprophyticu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85800" y="453960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46480" y="4539600"/>
              <a:ext cx="1339920" cy="559800"/>
              <a:chOff x="5046480" y="4539600"/>
              <a:chExt cx="1339920" cy="559800"/>
            </a:xfrm>
          </p:grpSpPr>
          <p:sp>
            <p:nvSpPr>
              <p:cNvPr id="368" name=""/>
              <p:cNvSpPr/>
              <p:nvPr/>
            </p:nvSpPr>
            <p:spPr>
              <a:xfrm>
                <a:off x="5128920" y="453960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2-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046480" y="453960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6386760" y="4539600"/>
              <a:ext cx="1339200" cy="559800"/>
              <a:chOff x="6386760" y="4539600"/>
              <a:chExt cx="1339200" cy="559800"/>
            </a:xfrm>
          </p:grpSpPr>
          <p:sp>
            <p:nvSpPr>
              <p:cNvPr id="371" name=""/>
              <p:cNvSpPr/>
              <p:nvPr/>
            </p:nvSpPr>
            <p:spPr>
              <a:xfrm>
                <a:off x="6469200" y="453960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86760" y="453960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7726680" y="4539600"/>
              <a:ext cx="1339920" cy="559800"/>
              <a:chOff x="7726680" y="4539600"/>
              <a:chExt cx="1339920" cy="559800"/>
            </a:xfrm>
          </p:grpSpPr>
          <p:sp>
            <p:nvSpPr>
              <p:cNvPr id="374" name=""/>
              <p:cNvSpPr/>
              <p:nvPr/>
            </p:nvSpPr>
            <p:spPr>
              <a:xfrm>
                <a:off x="7809840" y="453960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726680" y="453960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685800" y="5100120"/>
              <a:ext cx="4360320" cy="559800"/>
              <a:chOff x="685800" y="5100120"/>
              <a:chExt cx="4360320" cy="559800"/>
            </a:xfrm>
          </p:grpSpPr>
          <p:sp>
            <p:nvSpPr>
              <p:cNvPr id="377" name=""/>
              <p:cNvSpPr/>
              <p:nvPr/>
            </p:nvSpPr>
            <p:spPr>
              <a:xfrm>
                <a:off x="768240" y="510012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Enterococcus s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85800" y="510012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5046480" y="5100120"/>
              <a:ext cx="1339920" cy="559800"/>
              <a:chOff x="5046480" y="5100120"/>
              <a:chExt cx="1339920" cy="559800"/>
            </a:xfrm>
          </p:grpSpPr>
          <p:sp>
            <p:nvSpPr>
              <p:cNvPr id="380" name=""/>
              <p:cNvSpPr/>
              <p:nvPr/>
            </p:nvSpPr>
            <p:spPr>
              <a:xfrm>
                <a:off x="5128920" y="510012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046480" y="510012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6386760" y="5100120"/>
              <a:ext cx="1339200" cy="559800"/>
              <a:chOff x="6386760" y="5100120"/>
              <a:chExt cx="1339200" cy="559800"/>
            </a:xfrm>
          </p:grpSpPr>
          <p:sp>
            <p:nvSpPr>
              <p:cNvPr id="383" name=""/>
              <p:cNvSpPr/>
              <p:nvPr/>
            </p:nvSpPr>
            <p:spPr>
              <a:xfrm>
                <a:off x="6469200" y="510012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4-5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386760" y="510012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7726680" y="5100120"/>
              <a:ext cx="1339920" cy="559800"/>
              <a:chOff x="7726680" y="5100120"/>
              <a:chExt cx="1339920" cy="559800"/>
            </a:xfrm>
          </p:grpSpPr>
          <p:sp>
            <p:nvSpPr>
              <p:cNvPr id="386" name=""/>
              <p:cNvSpPr/>
              <p:nvPr/>
            </p:nvSpPr>
            <p:spPr>
              <a:xfrm>
                <a:off x="7809840" y="510012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726680" y="510012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685800" y="5660640"/>
              <a:ext cx="4360320" cy="559800"/>
              <a:chOff x="685800" y="5660640"/>
              <a:chExt cx="4360320" cy="559800"/>
            </a:xfrm>
          </p:grpSpPr>
          <p:sp>
            <p:nvSpPr>
              <p:cNvPr id="389" name=""/>
              <p:cNvSpPr/>
              <p:nvPr/>
            </p:nvSpPr>
            <p:spPr>
              <a:xfrm>
                <a:off x="768240" y="566064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Autres BGN </a:t>
                </a:r>
                <a:r>
                  <a:rPr b="1" lang="fr-FR" sz="1600" spc="-1" strike="noStrike">
                    <a:solidFill>
                      <a:srgbClr val="ffff99"/>
                    </a:solidFill>
                    <a:latin typeface="Arial"/>
                  </a:rPr>
                  <a:t>(klebsiella, enterobacter, serrati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85800" y="566064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5046480" y="5660640"/>
              <a:ext cx="1339920" cy="559800"/>
              <a:chOff x="5046480" y="5660640"/>
              <a:chExt cx="1339920" cy="559800"/>
            </a:xfrm>
          </p:grpSpPr>
          <p:sp>
            <p:nvSpPr>
              <p:cNvPr id="392" name=""/>
              <p:cNvSpPr/>
              <p:nvPr/>
            </p:nvSpPr>
            <p:spPr>
              <a:xfrm>
                <a:off x="5128920" y="566064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-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046480" y="566064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6386760" y="5660640"/>
              <a:ext cx="1339200" cy="559800"/>
              <a:chOff x="6386760" y="5660640"/>
              <a:chExt cx="1339200" cy="559800"/>
            </a:xfrm>
          </p:grpSpPr>
          <p:sp>
            <p:nvSpPr>
              <p:cNvPr id="395" name=""/>
              <p:cNvSpPr/>
              <p:nvPr/>
            </p:nvSpPr>
            <p:spPr>
              <a:xfrm>
                <a:off x="6469200" y="566064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6760" y="566064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726680" y="5660640"/>
              <a:ext cx="1339920" cy="559800"/>
              <a:chOff x="7726680" y="5660640"/>
              <a:chExt cx="1339920" cy="559800"/>
            </a:xfrm>
          </p:grpSpPr>
          <p:sp>
            <p:nvSpPr>
              <p:cNvPr id="398" name=""/>
              <p:cNvSpPr/>
              <p:nvPr/>
            </p:nvSpPr>
            <p:spPr>
              <a:xfrm>
                <a:off x="7809840" y="566064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726680" y="566064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685800" y="6221160"/>
              <a:ext cx="4360320" cy="559800"/>
              <a:chOff x="685800" y="6221160"/>
              <a:chExt cx="4360320" cy="559800"/>
            </a:xfrm>
          </p:grpSpPr>
          <p:sp>
            <p:nvSpPr>
              <p:cNvPr id="401" name=""/>
              <p:cNvSpPr/>
              <p:nvPr/>
            </p:nvSpPr>
            <p:spPr>
              <a:xfrm>
                <a:off x="768240" y="622116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Levure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85800" y="622116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5046480" y="6221160"/>
              <a:ext cx="1339920" cy="559800"/>
              <a:chOff x="5046480" y="6221160"/>
              <a:chExt cx="1339920" cy="559800"/>
            </a:xfrm>
          </p:grpSpPr>
          <p:sp>
            <p:nvSpPr>
              <p:cNvPr id="404" name=""/>
              <p:cNvSpPr/>
              <p:nvPr/>
            </p:nvSpPr>
            <p:spPr>
              <a:xfrm>
                <a:off x="5128920" y="622116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046480" y="622116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386760" y="6221160"/>
              <a:ext cx="1339200" cy="559800"/>
              <a:chOff x="6386760" y="6221160"/>
              <a:chExt cx="1339200" cy="559800"/>
            </a:xfrm>
          </p:grpSpPr>
          <p:sp>
            <p:nvSpPr>
              <p:cNvPr id="407" name=""/>
              <p:cNvSpPr/>
              <p:nvPr/>
            </p:nvSpPr>
            <p:spPr>
              <a:xfrm>
                <a:off x="6469200" y="622116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386760" y="622116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7726680" y="6221160"/>
              <a:ext cx="1339920" cy="559800"/>
              <a:chOff x="7726680" y="6221160"/>
              <a:chExt cx="1339920" cy="559800"/>
            </a:xfrm>
          </p:grpSpPr>
          <p:sp>
            <p:nvSpPr>
              <p:cNvPr id="410" name=""/>
              <p:cNvSpPr/>
              <p:nvPr/>
            </p:nvSpPr>
            <p:spPr>
              <a:xfrm>
                <a:off x="7809840" y="622116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726680" y="622116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809640" y="2290320"/>
            <a:ext cx="810576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New York"/>
                <a:ea typeface="Times New Roman"/>
              </a:rPr>
              <a:t>	</a:t>
            </a:r>
            <a:r>
              <a:rPr b="0" lang="fr-FR" sz="3600" spc="-1" strike="noStrike">
                <a:solidFill>
                  <a:srgbClr val="ffff99"/>
                </a:solidFill>
                <a:latin typeface="New York"/>
                <a:ea typeface="Times New Roman"/>
              </a:rPr>
              <a:t>Fréquences des résistances bactériennes en ville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 coli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s-à-vis d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picilline : 40-5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trimoxazole : 25-40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oxicilline-acide clavulanique : 30-40 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307880" y="609120"/>
            <a:ext cx="768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cologie microbienne des IU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tibiotiques disponibl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Molécules ayant une élimination et une   concentration urinaire élevée (IU Bas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nitrofura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ulfam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quinolones de 1ère géné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fosfomycine-trométam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761760" y="2106720"/>
            <a:ext cx="83055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Molécules ayant une concentration parenchymateuse et une élimination urinaire élev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Aminos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Fluoroquinol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Cotrimoxazole-trimetopr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Béta-lactamines :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pénicilline A et dérivés, carboxy-, uréïdo, amidinopénicil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Céphalosporines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de 1ère, 2ème et 3ème géné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Colimyc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tibiotiques disponibl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a colonisation urinai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09280" y="1980720"/>
            <a:ext cx="8334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Pas de trait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 le patie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it sondé ou non, diabétique, âgé ou avec une vessie neurolog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AUF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mmes enceintes (toujou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péniques, immunodéprimé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 préopératoire (chir. ou explorations urologique, pose de prothè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ient avec prothèse articulaire, vasculaire ou cardiaque subissant des manœuvres invas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pidémie à BMR dans une unité hospitaliè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YSTITES AIGUE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RAITEM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tement conventionnel (7 à 10jou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tement court (3 jou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tement min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5950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aitement conventionnel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1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urée de 7 à 10 j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ntibiotiques utilisé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quinolone de 1ère géné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nitrofur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trimoxaz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éphalosporines 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moxicilline + acide clavula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685440" y="1985760"/>
            <a:ext cx="838188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n 1ère intention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floxacine, noroxin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 MG 1 cp 2x/jour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ltern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loxacine, OFLOCET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0 MG 1 cp 2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fixime, OROKEN® 200 PO</a:t>
            </a:r>
            <a:r>
              <a:rPr b="0" lang="fr-FR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cp 2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-amoxiclav, AUGMENTIN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 gr  3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n 2nde int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trofurantoïne, FURADANTINE® 50 MG PO</a:t>
            </a:r>
            <a:r>
              <a:rPr b="0" lang="fr-FR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cp 3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trimoxazole, BACTRIM FORT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00/160 MG 1 cp 2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title"/>
          </p:nvPr>
        </p:nvSpPr>
        <p:spPr>
          <a:xfrm>
            <a:off x="1066320" y="5950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aitement conventionnel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2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Duré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de 3 j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ntibiotiques utilisés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Bactrim, quinolones urin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ère intention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floxacine, NOROXIN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 MG 1 cp 2x/jour pdt 3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oxacine, ENOXOR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 MG 2 cp/j  pdt 3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mefloxacine, LOGIFLOX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 mg 1 cp/j  pdt 3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nde intention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trimoxazole, BACTRIM FORT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00/160 MG 3 cp en 1 prise uniqu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Times New Roman"/>
              </a:rPr>
              <a:t>Pour cotrimoxazole et quinolones le ttt court n’a pas d’avantage par rapport au ttt min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T court des IU bass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éfinition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09320"/>
            <a:ext cx="8105760" cy="44960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Colonisation 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bactériurie asymptomatique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)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: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présence de germes dans l’arbre urinaire sans manifestations clin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z le patient sondé un ECBU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5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fc/ml (= 100% des cas après 3 semaines de sondag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z le patient non sondé présence de 2 ECBU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fc/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Infection urinaire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u moins 1 des signes :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ièvre, impériosité mictionnelle, pollakiurie, brûlures mictionnelles ou douleurs sus-pubien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New York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</a:t>
            </a:r>
            <a:r>
              <a:rPr b="1" lang="fr-FR" sz="20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et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1 </a:t>
            </a:r>
            <a:r>
              <a:rPr b="0" lang="fr-FR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ECBU </a:t>
            </a:r>
            <a:r>
              <a:rPr b="1" lang="fr-FR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+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: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concentration bactérienne </a:t>
            </a:r>
            <a:r>
              <a:rPr b="0" lang="fr-FR" sz="2000" spc="-1" strike="noStrike">
                <a:solidFill>
                  <a:srgbClr val="ffffcc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10</a:t>
            </a:r>
            <a:r>
              <a:rPr b="0" lang="fr-FR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5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fc/m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+ leucocyturie </a:t>
            </a:r>
            <a:r>
              <a:rPr b="0" lang="fr-FR" sz="2000" spc="-1" strike="noStrike">
                <a:solidFill>
                  <a:srgbClr val="ffffcc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10</a:t>
            </a:r>
            <a:r>
              <a:rPr b="0" lang="fr-FR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/ml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 positive suffit pour cystite aigüe simple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809280" y="2214360"/>
            <a:ext cx="83343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Durée :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1 seule pr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Antibiotiques utilisable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efficacité immédiate et retardée identiqu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éflacine monodose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800m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iprofloxacine (Uniflox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500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Ofloxacine (Monoflocet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400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osfomycine-trométamol (Monuril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, Uridoz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1 sachet de 3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T minute des IU bass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809280" y="2133360"/>
            <a:ext cx="8334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emme de 15 à 65 a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e fièvre ou de douleurs lomb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ymptomatologie récente </a:t>
            </a:r>
            <a:r>
              <a:rPr b="0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3 j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’uropathie (</a:t>
            </a:r>
            <a:r>
              <a:rPr b="0" lang="fr-FR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reflux, méga-uretère, vessie neurologique, tumeurs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e grossesse en c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'intervention ou d'endoscopie urologique réc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e pathologie sous-jacente (Diabète, immunosuppression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Dans tous les autres cas ou si échec du TT minute </a:t>
            </a:r>
            <a:r>
              <a:rPr b="0" lang="fr-FR" sz="3200" spc="-1" strike="noStrike">
                <a:solidFill>
                  <a:srgbClr val="ff6600"/>
                </a:solidFill>
                <a:latin typeface="Symbol"/>
                <a:ea typeface="Symbol"/>
              </a:rPr>
              <a:t></a:t>
            </a: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 TT conventio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71600" y="609480"/>
            <a:ext cx="750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nditions d'utilisation du TT cour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t du TT minu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Règles hygiéno-diétét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09640" y="20574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oujours associées au TT antibiot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isson abondante et réguliè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tions régulièr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de sous-vêtements en co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iter les vêtements serr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T diarrhée et constip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ilet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érinéal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’avant en arriè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ystites aiguës récidivant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ermes responsables en général plus résistants d'où nécessité d'un ECBU et d'un antibi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Traitement conventionnel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7-10 j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Adapté à l’antibi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99"/>
                </a:solidFill>
                <a:uFillTx/>
                <a:latin typeface="Times New Roman"/>
              </a:rPr>
              <a:t>puis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mesures préventive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indispensab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ègles hygiéno-diétét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ntibioprophylax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bioprophylaxie des cystites récidivan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soit en prise continu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= le soir au couc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soit discontinu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2 à 3 fois par sema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molécules utilisée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trimoxazole 80-4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itrofurantoïne 50 à 1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éfalexine 25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cide nalidixique 5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cide pipémidique 2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orfloxacine 200-4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PYELONEPHRITES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TRAITEM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qué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yélonéphrite aiguë non  compliquée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800568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Antibiotiques utilisable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luoroquinolo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-lactam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actr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minosid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possibles en début de traitement pdt 48 à 72 heures en 1 dose /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Durée :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14-21 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Réévaluation secondaire du traitement en fonction de l'antibiogramme + ECBU de contrô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809280" y="2671560"/>
            <a:ext cx="83343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éfotaxime, CLAFORAN</a:t>
            </a:r>
            <a:r>
              <a:rPr b="0" lang="fr-F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 gr 3x/j 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ftriaxone, ROCEPHINE</a:t>
            </a:r>
            <a:r>
              <a:rPr b="0" lang="de-DE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 gr 1x/j IV/I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fixime, OROKEN</a:t>
            </a:r>
            <a:r>
              <a:rPr b="0" lang="fr-F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0 mg 1 cp 2x/jour en relais des voies IV et I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loxacine, OFLOCET</a:t>
            </a:r>
            <a:r>
              <a:rPr b="0" lang="fr-F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0 mg x 2/j PO ou IV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yélonéphrite aiguë non  compliquée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yélonéphrites aiguës compliquée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09280" y="2133720"/>
            <a:ext cx="8334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Uropathies malformatives, reflux vésico-urétéral, méga-uretère, obstacle sur les voies urinaire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bcès rénal ou pararé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Greffé, immunodéprimé, diabète,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ntibiotiques utilisabl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: ident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Durée :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3 semaines minimum (3-6 s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Bithérapie d'emblée comportant un amino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Traitement urologique associé si nécessaire :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drainage par néphrostomie ou abord chir. direct ; néphrectomie si pyonéphr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PROSTATIT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guë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809640" y="23670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Times New Roman"/>
              </a:rPr>
              <a:t>IU nosocomi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Survenue + de 48h après l’admission à l’Hôpi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Sans son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Avec sonde U (acquisition lors de la mise en place, par voie endoluminale ou extraluminale, hématogè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016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éfinitions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icrobiologie des prostatit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62120" y="223308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Prostatites primitiv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= rarement MS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E. coli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C. trachoma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ntérocoqu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- U. urealytic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Proteus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- M. homin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Staphylococcus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aureus 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- Gonoco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Prostatites post-opératoir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Klebsiella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- Pseudom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Enterobacter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- Acinetobac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Serrat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876920" y="2743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876920" y="5262480"/>
            <a:ext cx="0" cy="106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aitement des prostatites (1)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09640" y="23670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Caractéristiques du traitement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iposolubilité, pH basique et spectre d'activi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Durée du traitement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rostatite aiguë : 4 sema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rostatite chronique: 12 sema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chémas thérapeutiqu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09640" y="190512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99"/>
                </a:solidFill>
                <a:uFillTx/>
                <a:latin typeface="Times New Roman"/>
              </a:rPr>
              <a:t>Prostatites aiguë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Q ou  C3G +/- aminos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Q ou cyclines (si 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Chlamydia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trimoxazole (Si germe sensi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99"/>
                </a:solidFill>
                <a:uFillTx/>
                <a:latin typeface="Times New Roman"/>
              </a:rPr>
              <a:t>Prostatites chroniqu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yclines (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Chlamydia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trimoxazole (Si germe sensi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S PARTICULIE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mme encei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ctions sur so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mmes, enf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emme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nceint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2214360"/>
            <a:ext cx="845820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as de schéma dose u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Utilisation des antibiotiques autorisés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péni, céphalosporines, nitrofuranes si 2ème trim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Bactériurie asymptomatique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: TT systématique de 10 j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Cystite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1,5 à 3,5%) : TT conventio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Pyélonéphrites (1 à 2%)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: privilégier les C3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près 1</a:t>
            </a:r>
            <a:r>
              <a:rPr b="1" lang="fr-FR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ère</a:t>
            </a:r>
            <a:r>
              <a:rPr b="1" lang="fr-F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infection ou bactériurie asymptomatique, réaliser 1 ECBU/mois</a:t>
            </a:r>
            <a:r>
              <a:rPr b="0" lang="fr-F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fr-F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ndant toute la grosses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fection urinaire sur sond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as de traitement en l’absence de symptô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i signes d'infection déclaré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raitement en fonction de la sensibilité des ger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i possible, arrêter le sondage; en cas d’impossibilité, changement de sonde sous traitement à discu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ermes isolés : 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E . coli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, Entérocoque, 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P.aeruginosa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Klebsiella sp, Enterobacter sp, Serratia sp, Candida sp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évention des infections sur son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09640" y="2900520"/>
            <a:ext cx="7958160" cy="31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ipulation asept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minuer le nombre et la durée des sondages urinai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ilisation de sachet anti-reflu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ection urinaire chez l’hom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Vérifier si atteinte primitive ou secondaire de la prostate (toucher rectal, écho. prostatiqu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i prostatite associée, durée du traitement adapté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ébuter un bilan urologique dès le premier épisode d’infection urinaire sans prostatite primit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UIV, scanner rénal, épreuves uro-dynamiques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28760" y="9140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éfinitions (3) :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Infections urinaires basses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 u="sng">
                <a:solidFill>
                  <a:srgbClr val="ffff66"/>
                </a:solidFill>
                <a:uFillTx/>
                <a:latin typeface="Times New Roman"/>
              </a:rPr>
              <a:t>Cystite aiguë simple</a:t>
            </a: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(non compliqué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emme de 15-65 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Hors grossesse, IU récidivante, uropathie, diabète, immunodépression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linique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ignes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: dysurie, pesanteur pelvienne, pollakiurie, pyurie, incontin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ignes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: fièvre, douleurs lomba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Biologie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BU + (Nitrites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et/ou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leucocy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CBU non indispens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tteinte du haut appareil possible dans 10 à 35% des cas surtout si évolution de la symptomatologie de plus de 7 j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762120" y="2057400"/>
            <a:ext cx="79581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66"/>
                </a:solidFill>
                <a:uFillTx/>
                <a:latin typeface="Times New Roman"/>
              </a:rPr>
              <a:t>Cystites aiguës récidiva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lus de 4 cystites par 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O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 épisodes rapprochés de – de 3 mo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mplique : - ECBU systématique (avant et après T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 contre-indication TT min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 bilan urologique (à distance de l’I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 TT préventif des récid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66"/>
                </a:solidFill>
                <a:uFillTx/>
                <a:latin typeface="Times New Roman"/>
              </a:rPr>
              <a:t>Autres cystites compliqué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Homme, enfant, grossesse, uropathie, immunodé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CBU systématique, TT conventionnel, +/- bilan urologi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28760" y="91440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éfinitions (4) :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Infections urinaires basses</a:t>
            </a:r>
            <a:br>
              <a:rPr sz="44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914400" y="2090520"/>
            <a:ext cx="78487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99"/>
                </a:solidFill>
                <a:uFillTx/>
                <a:latin typeface="Times New Roman"/>
              </a:rPr>
              <a:t>Pyélonéphrites aiguës "simples" ou compliqu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inique : SFU + douleurs des fosses lombai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+ signes généraux (fièvre, friss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 ECBU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99"/>
                </a:solidFill>
                <a:uFillTx/>
                <a:latin typeface="Times New Roman"/>
              </a:rPr>
              <a:t>Pyélonéphrites aiguës compliqu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Obstacle sur les voies urinaires, uropath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cès parenchymateux ou pararé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99"/>
                </a:solidFill>
                <a:uFillTx/>
                <a:latin typeface="Times New Roman"/>
              </a:rPr>
              <a:t>Prostat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statite aiguë ou chro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imitive ou post-opérato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1308240" y="9140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éfinitions (5) :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Infections urinaires hautes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AGNOST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6600"/>
                </a:solidFill>
                <a:latin typeface="Times New Roman"/>
              </a:rPr>
              <a:t>CLINIQUE  !!!!!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Biolog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Bandelette U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(valeur prédictive négative de 98 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Nitrites reflets de la présence de bactéries productrices de nitrate réduct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NB: Pas de nitrate réductase chez les cocci Gram + (Entérocoque, Staphylocoque), BGN aérobies (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Pseudomonas sp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Nitrites négatifs à la B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ECBU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ufc/ml (coliformes) ou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ufc/ml (autres bactér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+ leucocyturie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/m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Syndrome inflammatoire biologique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: CRP </a:t>
            </a: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, VS </a:t>
            </a: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Hyperleucocytose à PN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Imagerie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Echo +++, +/- doppler, scann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10280" y="510552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238880" y="52419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i IU ha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yélonéphrites et iconographi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68360" y="2362320"/>
            <a:ext cx="3816360" cy="33526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042560" y="585612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anner ré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4800600" y="2341440"/>
            <a:ext cx="388620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Critères de choix de l’antibiotiqu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iveau d'infection bas ou ha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aractère communautaire ou nosocomial de l'inf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ype de germe en ca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aractère isolé ou récidivant de l'inf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errain sous-jac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thologique : uropathie, sonde à deme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hysiologique : grossesse, homme, enf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20:55:34Z</dcterms:created>
  <dc:creator>remy</dc:creator>
  <dc:description/>
  <dc:language>en-US</dc:language>
  <cp:lastModifiedBy>NONNENMM</cp:lastModifiedBy>
  <dcterms:modified xsi:type="dcterms:W3CDTF">2009-03-23T07:58:26Z</dcterms:modified>
  <cp:revision>108</cp:revision>
  <dc:subject/>
  <dc:title>TRAITEMENT ANTIBIOTIQUE DES INFECTIONS URINAIRES </dc:title>
</cp:coreProperties>
</file>